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67929"/>
        <c:axId val="19485460"/>
      </c:barChart>
      <c:catAx>
        <c:axId val="52867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85460"/>
        <c:crosses val="autoZero"/>
        <c:auto val="1"/>
        <c:lblAlgn val="ctr"/>
        <c:lblOffset val="100"/>
        <c:noMultiLvlLbl val="0"/>
      </c:catAx>
      <c:valAx>
        <c:axId val="19485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67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552-08F4-49CC-A1DA-E22A9B96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CBA-6167-42BB-8CE2-954C9D28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7A0-6283-4D7F-9B20-3418D88E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E56-F2C2-4B77-A7B5-14824CF1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847-CC77-482E-98A9-282D36F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751-142B-4CA1-8071-0DBFB246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2CB-417A-4682-AD83-EC08EEB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631-CA5D-4DB9-A693-B3B15E63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6FD-17C3-464F-9370-0123507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9FF-26C7-4F99-981D-4CD7387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952-A97C-4FC8-AEBE-7DECAC1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560-2AB9-4893-9D8C-E08C3CE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4223B-3199-4B34-ADA4-CE9B75409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