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6891975"/>
        <c:axId val="24527609"/>
      </c:barChart>
      <c:catAx>
        <c:axId val="1689197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527609"/>
        <c:crosses val="autoZero"/>
        <c:auto val="1"/>
        <c:lblAlgn val="ctr"/>
        <c:lblOffset val="100"/>
        <c:noMultiLvlLbl val="0"/>
      </c:catAx>
      <c:valAx>
        <c:axId val="2452760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89197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8C7CB-E0D1-41DB-810B-43121577D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21CF4-2C81-4430-9B81-3F66285EA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81DFB-9FC4-4ADC-A939-FA530CC35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C7F19-87C3-4576-AB0F-C00958F45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C04F5-48E3-4DFD-B161-0B3F4FD44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8AC10-0048-4B82-B3E1-35FA30FC7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777F6-7BDD-40F4-9875-E4A6EEE2C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678C5-977F-4066-AFBE-C56577EFA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61CD0-CB0C-492C-BEB1-FB90B29B0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FDF1F-9309-45C3-983B-10132B707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1EF12-2251-426F-B2F0-899E9FF8B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A5418-7DB3-441F-A5E3-90B9DF0EE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095E14-0153-46EF-9EC8-66A97BFBE61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