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50399"/>
        <c:axId val="89777415"/>
      </c:barChart>
      <c:catAx>
        <c:axId val="42350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77415"/>
        <c:crosses val="autoZero"/>
        <c:auto val="1"/>
        <c:lblAlgn val="ctr"/>
        <c:lblOffset val="100"/>
        <c:noMultiLvlLbl val="0"/>
      </c:catAx>
      <c:valAx>
        <c:axId val="89777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50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D62-B42F-4833-B4B4-3A3681F1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114-6588-404B-840C-1C84423A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F35-74CC-42F2-917D-A954FD2F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D7D-C2C8-4278-BAC8-F6BD0AD7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3E6-C55B-461A-8C4F-D1547FDB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55B-F2DA-4C1C-AE9F-C323682A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A84-D0C5-4630-A915-478FD15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19C-743D-42CB-BEAB-5E071D8D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75F-B635-40FC-B06C-EFC8467B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9B2-0AA5-4184-9E0C-EC9B50F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BB6-D204-4FED-A70F-97229F09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883-7674-4B51-AB7D-7100992F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018B1-E359-4CA3-B559-D1D9EF2F2F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