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6370203"/>
        <c:axId val="5177644"/>
      </c:barChart>
      <c:catAx>
        <c:axId val="5637020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177644"/>
        <c:crosses val="autoZero"/>
        <c:auto val="1"/>
        <c:lblAlgn val="ctr"/>
        <c:lblOffset val="100"/>
        <c:noMultiLvlLbl val="0"/>
      </c:catAx>
      <c:valAx>
        <c:axId val="517764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37020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8EEEB-DEFF-48D3-AEB8-7CE04EDA1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577B1-D99B-4CDF-88CD-320FC0481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B80EC-6472-42DC-8C66-F41EE85AC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E56EB-A2A3-4C83-8CD2-44E4E6AD7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1E96A-B3EE-4040-BDBE-1F11AB533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B1711-F3EF-4DF6-8402-19937FB1A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7DAE6-577E-4593-A51E-2A01602EF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4987F-735C-4959-A076-48F726739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319F0-0F16-4953-B2A0-7ED54D748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69F96-541A-4364-AF99-66C8F339E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F2B9F-A54B-4122-A3F3-7DA5CEF7D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78DD1-E34A-4550-BB6A-8479E16B9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265481-AA8E-41CA-A89C-4325838CFD7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