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79787"/>
        <c:axId val="15465190"/>
      </c:barChart>
      <c:catAx>
        <c:axId val="99479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65190"/>
        <c:crosses val="autoZero"/>
        <c:auto val="1"/>
        <c:lblAlgn val="ctr"/>
        <c:lblOffset val="100"/>
        <c:noMultiLvlLbl val="0"/>
      </c:catAx>
      <c:valAx>
        <c:axId val="15465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79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A71-B90E-4E83-850C-CBC39FFA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D45-5546-4602-AD60-F675804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73A-65B6-4F8C-ADCB-9015DBEC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C47-E159-422A-ACA2-266A41EE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5CE-FDB3-41CB-9A38-CA459B9A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BF9-9AAE-4D6C-9AEC-E1B4D05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84B-8B85-4FA7-B4CC-711A2161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90B-E316-4372-A47A-5F6144F8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45D-6EE7-4D4D-B824-72CC7A6F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304-91F5-44FB-A934-0557DFE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2ED-C428-4981-BB56-822BCF5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BCF-5482-4634-96EF-AB17915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FB53A-9685-4575-9CF1-A2302113F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