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03357"/>
        <c:axId val="55645475"/>
      </c:barChart>
      <c:catAx>
        <c:axId val="55503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45475"/>
        <c:crosses val="autoZero"/>
        <c:auto val="1"/>
        <c:lblAlgn val="ctr"/>
        <c:lblOffset val="100"/>
        <c:noMultiLvlLbl val="0"/>
      </c:catAx>
      <c:valAx>
        <c:axId val="55645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03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89C-E5AF-4D05-8544-CEA75060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F53-4AF1-4696-A2DE-7B614639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957-A02E-4CDF-B3A3-0BDD23ED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AC4-8620-430C-9399-0E468BE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457-6558-42BB-AF0B-3521122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67B-2EDE-435C-9366-80BF383F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78D-72CB-47B0-B2C8-722B1E5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FF7-5A3C-4EDD-84D4-B6FB47D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5A8-DAD7-4BE4-8D6D-27BB066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00F-80DA-47C9-A5ED-8E05A1E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E51-437E-4D24-8E80-8120636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16E-9FA5-49BB-9E99-6A341A3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908EC-C654-4DF5-8ED3-34CAEE2CD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