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53925"/>
        <c:axId val="71391031"/>
      </c:barChart>
      <c:catAx>
        <c:axId val="62153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91031"/>
        <c:crosses val="autoZero"/>
        <c:auto val="1"/>
        <c:lblAlgn val="ctr"/>
        <c:lblOffset val="100"/>
        <c:noMultiLvlLbl val="0"/>
      </c:catAx>
      <c:valAx>
        <c:axId val="71391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3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A1F-D919-4429-84BE-254C0595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3EB-D47C-41A3-BA59-2EB1EEA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F72-7027-452C-84B0-F9F49554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9DB-190B-4D03-AFD1-FD07BE8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644-DBB4-4237-9ED4-B276FCDA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2CE-6789-479C-9C0C-3556FD9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BB-F08E-4B17-8914-D6C86E7F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767-3ACE-4469-A06B-D710088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6C6-34DF-41C6-8FA5-BD27BAC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2D2-99E3-4990-B53C-AAF7A0D6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4C9-463D-4A54-BBAC-EA846E2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651-E62A-4016-9471-54EF0044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5DA6F-8812-4DD2-84C9-A4579B823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