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12390"/>
        <c:axId val="57716315"/>
      </c:barChart>
      <c:catAx>
        <c:axId val="67712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16315"/>
        <c:crosses val="autoZero"/>
        <c:auto val="1"/>
        <c:lblAlgn val="ctr"/>
        <c:lblOffset val="100"/>
        <c:noMultiLvlLbl val="0"/>
      </c:catAx>
      <c:valAx>
        <c:axId val="57716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12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69E-B463-4BF7-AC2E-9E9127F0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302-56B9-41E9-AC66-62CC49BF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B4F-EB94-4EE3-A8CB-67C69619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A34-1348-4D0D-B9E9-DC928979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896-81AC-4C00-9A92-0ABE2AE4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8C4-53B4-4809-A1D9-27163D65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F52-1F1A-4F54-BB6A-6638A16D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537-EEAA-441A-9CAC-F64B1A10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1D5-9D84-4CEB-9E56-08E7D682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A32-CB32-49BB-90A8-A33F76D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1A6-B321-4D98-8415-D42AE28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BCE-B2C1-4664-B9D3-0BB7C023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C7C34-F0B2-448C-B4F7-C8EF4C1A6A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