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184394"/>
        <c:axId val="34387962"/>
      </c:barChart>
      <c:catAx>
        <c:axId val="201843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387962"/>
        <c:crosses val="autoZero"/>
        <c:auto val="1"/>
        <c:lblAlgn val="ctr"/>
        <c:lblOffset val="100"/>
        <c:noMultiLvlLbl val="0"/>
      </c:catAx>
      <c:valAx>
        <c:axId val="343879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1843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BFEE-4126-43BC-A217-966D7D662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7DA5-A4C0-4D63-9524-4C2533D7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846A-70D2-4F0E-B442-59001FFBF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A9E9-6278-4B48-A977-1C90972BB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CFF7-7D00-4228-8623-856983F0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264A-D79C-4B36-BEF2-39B0DAFF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B45D-C31C-452F-BBCF-3A913E40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BEFA-CF49-4F5C-8813-55A9E68B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4013-9F0C-4E8B-8895-478D8CF4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AFD1-F06C-4161-953E-7043401D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226B-1656-453F-ACA9-2F427E3D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7DDC-B13C-493B-926A-85A1A1A9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4DE7B-2790-43F4-888F-AF26A0B3DE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