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60077"/>
        <c:axId val="38080411"/>
      </c:barChart>
      <c:catAx>
        <c:axId val="86460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80411"/>
        <c:crosses val="autoZero"/>
        <c:auto val="1"/>
        <c:lblAlgn val="ctr"/>
        <c:lblOffset val="100"/>
        <c:noMultiLvlLbl val="0"/>
      </c:catAx>
      <c:valAx>
        <c:axId val="38080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60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7EBC-664B-4E39-B9CC-FFF63741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8A7-FDBD-4E04-84A9-9DAE14A9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805-D30F-443B-8192-636DA97A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1848-56DF-4FCB-A14A-B243DB3A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1E2-D019-4564-9E14-68361A44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944-E03B-4964-861C-383F789F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4F5-C89D-4E57-B32E-1B1FD1B7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C109-529E-4E68-BF46-CA113FC8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6F14-C8D3-42B7-97AC-5592CC3D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514-6214-4194-BBF5-E171424A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1DF0-9E25-49AC-A4B8-DC173800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57BF-0D84-46D5-8469-13914AF7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F7F30-3AE5-4FA3-9E8A-65BF42C695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