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94521"/>
        <c:axId val="2635962"/>
      </c:barChart>
      <c:catAx>
        <c:axId val="80894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5962"/>
        <c:crosses val="autoZero"/>
        <c:auto val="1"/>
        <c:lblAlgn val="ctr"/>
        <c:lblOffset val="100"/>
        <c:noMultiLvlLbl val="0"/>
      </c:catAx>
      <c:valAx>
        <c:axId val="2635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94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9D7-9274-4487-B1DD-F3BD3AFF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90E-2404-4D14-A665-FD66BA8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78B-65C4-49C0-84C3-D82BFEB8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0CF-C8F9-4AC9-B106-E350E3BB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3C7-C68C-414D-B1E7-BEF9EA4D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B7E-F037-4893-B68D-748EC5CF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FBA-1078-4E53-9052-2285785D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8EF-5838-4136-8F01-F7CE9CD6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C51-9C4B-4DAC-AAF3-2F66DE2D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A9C-62A4-40F2-B41A-30DCB9A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4A4-6CF7-4699-8C44-6B68B48B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235-6042-4920-A242-E6AB27D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2A35F-0D02-4FC1-B7AD-5CC3002C9F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