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5467025"/>
        <c:axId val="98379893"/>
      </c:barChart>
      <c:catAx>
        <c:axId val="5546702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379893"/>
        <c:crosses val="autoZero"/>
        <c:auto val="1"/>
        <c:lblAlgn val="ctr"/>
        <c:lblOffset val="100"/>
        <c:noMultiLvlLbl val="0"/>
      </c:catAx>
      <c:valAx>
        <c:axId val="9837989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46702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496B0-C7DC-4CB3-B8E4-D5609FFC4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C4369-16C7-4A61-B896-661A8BCC8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2685F-E75F-49CC-BA48-54B1A65DD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6DF5D-08BE-423C-921C-578900ABB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686F0-8281-4E5E-B89C-58C517DF0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ACB14-7C70-4D4B-8C92-6C1383426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C4708-A41C-494F-867B-E3DFEB8BB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89D3F-52DE-4D60-B8A0-0C665919F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8C0DF-CD5F-4FEF-A2C9-0C45AF3A4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79022-24EC-4D23-B593-7FDCC58B8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2B277-E065-4FCD-A0CE-86EF13C06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BBECD-B639-43C8-B233-479907F21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47FB32-945B-4AB8-BB53-01A43B57F54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