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69117"/>
        <c:axId val="16972219"/>
      </c:barChart>
      <c:catAx>
        <c:axId val="85969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72219"/>
        <c:crosses val="autoZero"/>
        <c:auto val="1"/>
        <c:lblAlgn val="ctr"/>
        <c:lblOffset val="100"/>
        <c:noMultiLvlLbl val="0"/>
      </c:catAx>
      <c:valAx>
        <c:axId val="16972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69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4EF-1497-4F92-AD94-9919C5C9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F92-A33E-4016-B4A8-DF4628F9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B6E-B60E-4E23-85AD-63FD60DB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C77-1E22-4790-ACE2-26CB00A3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FCE-942A-49BB-952A-ED7FCD10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4D9-EFDE-42BC-AD39-63606B50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30A-0697-4B83-8F36-58AA3512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063-935B-4890-B6AD-4AE5EA81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DFE-B3B0-4C7D-AAB1-274DFA67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B00-598C-4E54-9D0C-A0FFA188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D79-950F-4256-9A67-0590F5AB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96D-775F-48D4-9848-C9C1744A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48E1C-EA58-469D-9431-A4783C597F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