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88586"/>
        <c:axId val="37761510"/>
      </c:barChart>
      <c:catAx>
        <c:axId val="62688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61510"/>
        <c:crosses val="autoZero"/>
        <c:auto val="1"/>
        <c:lblAlgn val="ctr"/>
        <c:lblOffset val="100"/>
        <c:noMultiLvlLbl val="0"/>
      </c:catAx>
      <c:valAx>
        <c:axId val="37761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88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78C-1362-4FDD-876E-247F16FF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AB8-DF7A-4539-A117-03A5C617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2CF-1EDA-4B99-8698-B4FE3DD9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85D-5ED4-49AC-9352-F57D701B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714-D64B-465D-AAC2-C262FE9B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7EB-C87A-4B7B-A375-8A005FF8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8DE-6973-442E-9567-9F80C95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96E-098D-4753-A7C0-760078BA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B7A-90AE-4782-9FD2-16EB284B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70E-5F65-4069-847E-CE2713F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13D-110A-481B-86D2-841A56A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2CB-DAA9-43C1-93C4-DD7FCF2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D9B64-F4CA-48CF-896B-AB445759DC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