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26137"/>
        <c:axId val="31283909"/>
      </c:barChart>
      <c:catAx>
        <c:axId val="48326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83909"/>
        <c:crosses val="autoZero"/>
        <c:auto val="1"/>
        <c:lblAlgn val="ctr"/>
        <c:lblOffset val="100"/>
        <c:noMultiLvlLbl val="0"/>
      </c:catAx>
      <c:valAx>
        <c:axId val="31283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26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B11-86C9-4F72-AA13-0684E7AB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075-0979-442B-A0EB-8017E58D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F2B-B7E2-4916-8095-FAF4187A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B06-891B-4345-88E6-6FB79559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EF0-B331-4197-BEF9-C11BA39A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737-3DAE-4210-961B-22065217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1B4-1EFC-4288-A108-C09E78DC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8E0-6682-4A73-989C-1C66F05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DA8-CF9F-4AB5-BECD-380052D9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DA9-A5DA-4887-9B2E-37E4377A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178-898D-429F-A803-0A6F68F7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528-7CE8-4A2C-A2C3-5115D016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76091-299A-4B9E-A809-02AEB84547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