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49172"/>
        <c:axId val="1869382"/>
      </c:barChart>
      <c:catAx>
        <c:axId val="38749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9382"/>
        <c:crosses val="autoZero"/>
        <c:auto val="1"/>
        <c:lblAlgn val="ctr"/>
        <c:lblOffset val="100"/>
        <c:noMultiLvlLbl val="0"/>
      </c:catAx>
      <c:valAx>
        <c:axId val="1869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49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E9B-2142-4E58-83B9-9DBBF256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7FA-A081-4040-9396-0363C832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72D-8A19-4DB6-A061-1EC8E690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B37-BDE6-4C79-BE84-33E2CDCC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32A-9E49-438F-B8FF-9C7A1D91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9E9-8CD4-40DD-A3F2-CB10DE7A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B7E-4328-44F1-AFC3-914A17E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7B8-1DEC-4E37-A1BE-70E23513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880-AA3C-4964-86A6-2FA89798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086-C4DF-4817-A942-A91CB64E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3AB-0982-4861-A244-AB66F7C9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BD4-67E0-4D3F-A830-10A5BC2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365DE-9510-49FC-B867-8A48776560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