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280205"/>
        <c:axId val="79667978"/>
      </c:barChart>
      <c:catAx>
        <c:axId val="202802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667978"/>
        <c:crosses val="autoZero"/>
        <c:auto val="1"/>
        <c:lblAlgn val="ctr"/>
        <c:lblOffset val="100"/>
        <c:noMultiLvlLbl val="0"/>
      </c:catAx>
      <c:valAx>
        <c:axId val="796679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2802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706D-C0D3-41F7-94C1-0EAC1D15F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BA29-5FA3-4A7D-905D-EA3020963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FF9A-8CB3-456F-8982-89DE40441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D079-E3F6-45D1-81FB-43BE4EA19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6085-A150-4062-A32D-2AFFD0EEC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096B-51B2-4157-8FDB-3C83E88C4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EEAD-D90E-439B-9A00-A68B3E28E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C32D-565D-4AD9-BEA7-9F48E60AB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3F72-AC12-4338-BCDD-62EA257DB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CAA1-C563-4A3A-8A0D-B80C328EA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DE70-684C-41AA-93C9-12796704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BD0A-4771-473F-9052-77000BB5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FA2A9F-924F-4F0E-9701-6B7F2106FA8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