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14558"/>
        <c:axId val="91019396"/>
      </c:barChart>
      <c:catAx>
        <c:axId val="98114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19396"/>
        <c:crosses val="autoZero"/>
        <c:auto val="1"/>
        <c:lblAlgn val="ctr"/>
        <c:lblOffset val="100"/>
        <c:noMultiLvlLbl val="0"/>
      </c:catAx>
      <c:valAx>
        <c:axId val="91019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14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A39-5DB3-465A-A23A-CEE5C343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690-83FC-4CCA-9046-BAC78D27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B1E-4CEF-41E5-82B9-EB3AA203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77B-1279-480F-AE5B-687A1944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869-43A1-4F0D-A7DE-FE8C91DA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AD1-7196-4BC4-89DF-5B16A939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8D7-F4B1-495F-AF67-46681E67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288-2B9E-420E-A4ED-E18C01A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261-9D77-456F-9A49-D3A2285B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48A-25FD-4F56-A439-758DC3DA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D41-053A-43E5-B79F-178C8BB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272-56FE-4A1B-ADC7-D5C7914D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72545-7432-4160-B1D2-CF4C7CB006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