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845411"/>
        <c:axId val="514917"/>
      </c:barChart>
      <c:catAx>
        <c:axId val="758454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917"/>
        <c:crosses val="autoZero"/>
        <c:auto val="1"/>
        <c:lblAlgn val="ctr"/>
        <c:lblOffset val="100"/>
        <c:noMultiLvlLbl val="0"/>
      </c:catAx>
      <c:valAx>
        <c:axId val="5149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454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EBF5-AE45-45F7-9C69-D008D486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B6C5-2006-4731-8E09-CD6CDFE4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3FC4-2665-431F-80EA-3C6E4424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8A4A-27D2-4065-B53B-FA60CF61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E4CF-EB87-40EE-9316-E32CCE64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F21B-8D56-4C28-B0CC-0DCBF020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0B15-7CE0-443E-86D2-12F94FA8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4F7D-305D-4915-B2DB-D426C011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39CE-6E20-413D-8272-B3097053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596B-54C7-42AB-9965-C5DFCCAF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53EE-A71A-4CCC-865F-E0EDCC9C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B330-8327-49ED-8124-A1E956A2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1C22A-FDBB-4F76-9FE0-42AF14ED52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