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59711"/>
        <c:axId val="40255923"/>
      </c:barChart>
      <c:catAx>
        <c:axId val="52159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55923"/>
        <c:crosses val="autoZero"/>
        <c:auto val="1"/>
        <c:lblAlgn val="ctr"/>
        <c:lblOffset val="100"/>
        <c:noMultiLvlLbl val="0"/>
      </c:catAx>
      <c:valAx>
        <c:axId val="40255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59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61D-D977-4D48-A5D8-F48449C6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649-CA05-40C0-8D12-8CF1CD7F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69B-EC39-4086-9981-1915A2A3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419-23F5-438A-A5AF-8F7B82A6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D6F-4C1C-47E3-AF36-671A49D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C1C-5190-4A50-AF8A-F16D2CDE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D1A-9247-404B-A427-C09D4F44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980-B61C-4C78-A27B-BDD3D827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315-C31C-44A4-A48E-ABDC809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E4D-A54F-4984-893D-7EFFDB70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33A-B1A3-4B8C-96B7-3854D752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7AE-3445-4DB6-B1DB-B481DD2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4F384-B36B-456F-AAD0-BDE53DA819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