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140093"/>
        <c:axId val="4655970"/>
      </c:barChart>
      <c:catAx>
        <c:axId val="901400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55970"/>
        <c:crosses val="autoZero"/>
        <c:auto val="1"/>
        <c:lblAlgn val="ctr"/>
        <c:lblOffset val="100"/>
        <c:noMultiLvlLbl val="0"/>
      </c:catAx>
      <c:valAx>
        <c:axId val="46559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1400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9A90-66BC-4CC0-A5DF-F780C7FB1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79B2-FF31-4F48-A4A1-4D7123FC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63BD-5DF9-4F75-B130-E52F709D8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9F25-16DC-4003-8D6A-847342CEB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ED2E-884C-4CFB-AC8B-A7179A4C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1CF3-D89C-4AF8-B2B4-279B5FDE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CB89-B714-48B2-99C0-6A9BDC04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4B82-1D85-4637-BC52-440C84C7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1543-54D0-406D-AEF9-1909C18E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CB93-79AE-4A77-8325-A8D67A8A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8A25-8F3E-4FBE-9F1D-74283433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6A57-9ADC-4AF1-94EF-2CF5FD67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FD758D-5913-44CF-B34F-3199E762AE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