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16031"/>
        <c:axId val="52656512"/>
      </c:barChart>
      <c:catAx>
        <c:axId val="66016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56512"/>
        <c:crosses val="autoZero"/>
        <c:auto val="1"/>
        <c:lblAlgn val="ctr"/>
        <c:lblOffset val="100"/>
        <c:noMultiLvlLbl val="0"/>
      </c:catAx>
      <c:valAx>
        <c:axId val="5265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6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A9E-F19B-4236-AEFD-8C96767F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EEB-7827-4B98-99E6-B9A7F71E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F57-EDB1-49EB-A1C5-5D2E4D7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15E-4388-4F83-A71F-24356087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16B-4731-4038-9CC8-D395E5F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F1E-76F7-441B-A5B1-1AF70C0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99A-06E8-468B-8B35-7DC3FAD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852-B900-4534-A0BF-2A2FFF19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41F-E2C4-4385-BDFF-23DA88D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84B-8B5E-47E7-9036-A85E6FE0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1B8-3DF9-41D0-A3AC-9F1523C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DE5-8D57-4AEF-8766-D061EF9D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A599A-AA23-4FCD-A900-F152FF05A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