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158832"/>
        <c:axId val="16981669"/>
      </c:barChart>
      <c:catAx>
        <c:axId val="52158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81669"/>
        <c:crosses val="autoZero"/>
        <c:auto val="1"/>
        <c:lblAlgn val="ctr"/>
        <c:lblOffset val="100"/>
        <c:noMultiLvlLbl val="0"/>
      </c:catAx>
      <c:valAx>
        <c:axId val="169816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58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06B1-6E20-4227-8770-7AD92E18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A12-FCCA-4BF2-9AF8-D116C72E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48B-8854-4234-A8DD-757B592D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E5F-B44E-4B3B-948A-A925E23C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2DB7-9D58-4EAD-AA57-05D67590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CA0-216A-49B4-80AF-2FBB0E45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8DF-B6A9-4F5C-9E9A-5E956213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3591-ECC9-430E-895C-CC55DD68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907-5012-4F3E-B374-08FD0761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6D7D-3AF3-4A51-A466-A94162AF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78D-EB3F-4E31-A473-41B6FB6C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96A9-C6A0-46D3-B751-C69B423E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2A0D8-044F-442B-BA6A-8E638BF768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