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33666"/>
        <c:axId val="37560106"/>
      </c:barChart>
      <c:catAx>
        <c:axId val="64633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60106"/>
        <c:crosses val="autoZero"/>
        <c:auto val="1"/>
        <c:lblAlgn val="ctr"/>
        <c:lblOffset val="100"/>
        <c:noMultiLvlLbl val="0"/>
      </c:catAx>
      <c:valAx>
        <c:axId val="37560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3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400-99B2-4CAE-BE69-6BA51067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C06-DB83-4294-82FB-434569C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EDB-F7B5-43D1-99D4-12CA0697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710-9B0F-4723-AE37-06EED4B0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B93-6EE3-48AA-B878-A2C2A5D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5EB-2D12-44C1-85F6-769C11EA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EA5-3432-41CE-A6B9-452E357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6C1-CB5A-4FDE-A779-F03ED2F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3FE-DE82-4205-937F-704322C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FCC-4B01-4970-83F1-2784073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EFD-373C-4B07-A330-C798FC8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C55-8F22-4FF8-9F13-8A4451D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CDDAF-8201-4577-B9B0-A61653179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