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222976"/>
        <c:axId val="57086998"/>
      </c:barChart>
      <c:catAx>
        <c:axId val="832229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086998"/>
        <c:crosses val="autoZero"/>
        <c:auto val="1"/>
        <c:lblAlgn val="ctr"/>
        <c:lblOffset val="100"/>
        <c:noMultiLvlLbl val="0"/>
      </c:catAx>
      <c:valAx>
        <c:axId val="570869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2229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3630-91E1-4801-BB06-3E753F240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CB15-00A0-474C-AEAC-7FF30BC1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35AD-F8B9-45BD-BF78-96AC3544A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08E5-EDB7-402C-BB38-27C99FC80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ED5F-84F5-42B8-9B3A-66730E64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7C3C-1CF0-433B-9830-E895042D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D1EE-8380-4081-BE64-929E7DB7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C35A-5A00-4981-B721-4882E8F4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7C2F-F69E-4BA2-AA96-05F4A352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50EF-C39E-4163-9B27-A926C8D3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6EB6-0941-424F-8C7C-24EF5F22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9740-CDF4-4F09-8F21-60226042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8D44E1-3990-4840-8887-7601C286D8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