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08006"/>
        <c:axId val="82920939"/>
      </c:barChart>
      <c:catAx>
        <c:axId val="73008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20939"/>
        <c:crosses val="autoZero"/>
        <c:auto val="1"/>
        <c:lblAlgn val="ctr"/>
        <c:lblOffset val="100"/>
        <c:noMultiLvlLbl val="0"/>
      </c:catAx>
      <c:valAx>
        <c:axId val="82920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08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264-952B-41E1-AF89-D506E0E4B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C7D7-858F-4D01-A0FD-5F47DB77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528-0766-4C65-879B-099BE6BD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0B6-A620-4E1D-A51D-8CA4C2E2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BFCB-B129-4D4D-9D00-7E70646B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7217-1ABF-41B6-8729-D839D565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747-2637-4956-942A-A511167A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C42-7FD1-4B64-A3FF-472DB6F6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9E6-6007-4710-8405-B3A6AF72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76F-D3FF-4F9D-8BED-366D9685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E38-013E-4922-A77F-6ADEC4DB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A44-102B-4456-82D3-08275F12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CDB81-2CE4-458C-B738-F5E32BA882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