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81153"/>
        <c:axId val="41872776"/>
      </c:barChart>
      <c:catAx>
        <c:axId val="73781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72776"/>
        <c:crosses val="autoZero"/>
        <c:auto val="1"/>
        <c:lblAlgn val="ctr"/>
        <c:lblOffset val="100"/>
        <c:noMultiLvlLbl val="0"/>
      </c:catAx>
      <c:valAx>
        <c:axId val="41872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81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5CB-21C8-46E2-A9C8-03533351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842-E749-42BF-85C9-836817EE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68E-A832-40D6-80BC-A615F726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F8B-3C94-483C-9411-1FAF4DDB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E69-464F-4A98-A12B-BCB735AE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13F-711F-4FC5-A782-595712FE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2F5-B98B-47EF-A208-8BED3476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314-9673-49E1-A365-25550E34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6D0-60AD-4880-ADBD-92C34EB6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E42-E91B-4F7E-9C03-1F5D0D7D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44C-0FEF-42F1-8758-921F1069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D9C-2614-4C7C-9F77-34918D36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622B1-0FC6-4F78-9A47-49D1DABE33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