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48056"/>
        <c:axId val="45485802"/>
      </c:barChart>
      <c:catAx>
        <c:axId val="3794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85802"/>
        <c:crosses val="autoZero"/>
        <c:auto val="1"/>
        <c:lblAlgn val="ctr"/>
        <c:lblOffset val="100"/>
        <c:noMultiLvlLbl val="0"/>
      </c:catAx>
      <c:valAx>
        <c:axId val="4548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4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9B5-A3D5-4F36-8995-E7B9D7D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FDD-586A-4648-82BA-A7AD237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7FA-B84F-4782-8B34-50170F04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0FA-1806-4E2F-9893-F6D8FAC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34D-F221-4C4D-BD94-E724143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A5A-4B89-4733-9CF6-35BD7481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DE8-67BB-445A-9052-6599F841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15C-5AD4-4224-BE7C-23AA679C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6DB-665F-4BBE-9F45-00BD908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A2E-05BB-4ECE-A38E-2C3EC18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802-D5C7-49A3-8E64-2EB5638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443-8BA1-41D9-8A80-2CAF09F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85C75-5AE3-4CEC-BAC5-3B53064F8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