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48414"/>
        <c:axId val="53290827"/>
      </c:barChart>
      <c:catAx>
        <c:axId val="65348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90827"/>
        <c:crosses val="autoZero"/>
        <c:auto val="1"/>
        <c:lblAlgn val="ctr"/>
        <c:lblOffset val="100"/>
        <c:noMultiLvlLbl val="0"/>
      </c:catAx>
      <c:valAx>
        <c:axId val="53290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48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C5B-0813-43A4-9016-A98FA4C4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5B8-878E-439C-9A43-485F64C3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41C-437A-4F9F-AC20-6A2C10D1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66F-E07C-4CAE-9F24-A6AF56A0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CDB-EC08-42DE-A601-219522F1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28B-E539-41FC-95E0-0361594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2C7-1BBE-4957-A62B-42F1689E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995-B402-408F-9080-9F8347C4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042-D9BC-45CB-930F-4459B501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CC4-FA88-410E-B5F0-38D30C6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6B1-7D46-4677-93CA-F5D5FE25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C66-038C-4475-B399-EA498017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B37B0-A528-491F-A00E-86B1A93C15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