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319257"/>
        <c:axId val="73427289"/>
      </c:barChart>
      <c:catAx>
        <c:axId val="993192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27289"/>
        <c:crosses val="autoZero"/>
        <c:auto val="1"/>
        <c:lblAlgn val="ctr"/>
        <c:lblOffset val="100"/>
        <c:noMultiLvlLbl val="0"/>
      </c:catAx>
      <c:valAx>
        <c:axId val="734272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192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D0BB-3018-467E-BDD2-7277D089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8727-D7B1-4723-837E-CB827A94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5AAA-471F-43DD-AF36-05B71BC9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4848-EB94-4EA7-BE47-98C2D3E0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5FE6-A312-4FC9-B852-37F74D2C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3D1A-636E-4C7E-BF57-15CA05EC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A4BE-C945-4AEA-8CE3-219A9A19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AFEC-B6E4-4231-B8F6-FAFD0766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3B57-FA9A-499F-88D1-AA49BEC0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16C5-5831-436B-9CC5-4200029C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1FE2-8675-40B0-A951-6802EA9A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99D2-A09D-4B91-AE9E-808B8744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21E72-DE01-4174-8424-69EB8CE97B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