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08058"/>
        <c:axId val="6995580"/>
      </c:barChart>
      <c:catAx>
        <c:axId val="57108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5580"/>
        <c:crosses val="autoZero"/>
        <c:auto val="1"/>
        <c:lblAlgn val="ctr"/>
        <c:lblOffset val="100"/>
        <c:noMultiLvlLbl val="0"/>
      </c:catAx>
      <c:valAx>
        <c:axId val="6995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08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8FD-3EF9-4D06-ACBA-7917A2B3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05D-26F5-4483-8BBF-E6EE8B75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249-4159-45E9-AC8A-EF02C794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419-81A2-4730-A311-60CD95A8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420-DE75-4493-AB55-CA70D9CE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CCA-9603-41E9-AE84-67B7A118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4F6-0E54-42B3-B6E8-DCB85207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341-8D4B-44D8-B8F8-D9C05206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D95-C7AC-46DA-9170-592C787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5E0-027C-4DE5-B4F0-1E0BC36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B2C-1137-45C1-93D4-806C7190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BB8-881A-4487-8318-AE69E75B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DF326-5641-4721-95B1-438866C1A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