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14584"/>
        <c:axId val="93268047"/>
      </c:barChart>
      <c:catAx>
        <c:axId val="70614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68047"/>
        <c:crosses val="autoZero"/>
        <c:auto val="1"/>
        <c:lblAlgn val="ctr"/>
        <c:lblOffset val="100"/>
        <c:noMultiLvlLbl val="0"/>
      </c:catAx>
      <c:valAx>
        <c:axId val="93268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14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4FC-C2D1-4448-8E04-2A44A281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062-FAB4-4870-940E-5164CE32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6CE-F18C-4B15-AFD8-DDD1E77C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0B1-7A7C-42FB-AF88-A5B5B193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686-8251-499D-903C-429BC97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AFC-DFD1-4A8B-BF06-408E6CC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445-34F0-448C-96A9-6B526378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FA7-DFCC-495D-B6FF-3AB7064E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286-4A04-4E0F-AE0C-61778FF4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ADA-8684-4C40-8020-2AD36FE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DC0-CBF7-4B9B-BFBF-C231339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0D2-1D82-479D-B765-892B96A3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593A4-F46C-47D7-964E-0E4618A2DE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