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67828"/>
        <c:axId val="14598261"/>
      </c:barChart>
      <c:catAx>
        <c:axId val="59767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98261"/>
        <c:crosses val="autoZero"/>
        <c:auto val="1"/>
        <c:lblAlgn val="ctr"/>
        <c:lblOffset val="100"/>
        <c:noMultiLvlLbl val="0"/>
      </c:catAx>
      <c:valAx>
        <c:axId val="14598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67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C0F-FCEB-4FB1-813B-A2B8CDC2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6A5B-7A97-4AB2-92F1-8433ECE6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006-E9CB-4557-BAEE-29AB943A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CEB-98B1-49CF-ACDB-2C5317431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C39-7D69-46CA-816A-2B327371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969-E3AA-4D33-A61C-F0E02BB6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679-5D32-44A0-97DE-6E05D45A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920-0BCF-4A74-A5F9-F850EC85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9B5-9343-4F4C-AC14-3118D9D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D92-8740-4CC8-AF5D-B5F34732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B2D-5646-42C2-AC14-BA5EC7D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016-10AB-48BC-A96C-A5EE628F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2E122-061C-49BA-8AC4-8F9721CD7C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