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716176"/>
        <c:axId val="9134690"/>
      </c:barChart>
      <c:catAx>
        <c:axId val="547161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4690"/>
        <c:crosses val="autoZero"/>
        <c:auto val="1"/>
        <c:lblAlgn val="ctr"/>
        <c:lblOffset val="100"/>
        <c:noMultiLvlLbl val="0"/>
      </c:catAx>
      <c:valAx>
        <c:axId val="91346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7161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7C2C-C862-456C-8374-162ED1BE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C8CA-A1A1-42A3-ACBE-E0270509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E0C7-FAE0-4B02-A0D4-334062D6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ED47-26F5-40A9-BF8A-82F21616C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4B47-8BD2-4D3E-A00D-8DEF3739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9F14-1E6E-4288-82C8-9BF79196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F465-B01C-43AC-8A0A-2AD5882E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E759-E61E-4B2C-8CCB-B232F478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3152-C789-4BAE-8F27-2B58DE34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077B-4786-4551-981A-B0B47F35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FC72-E9D4-435F-9C9C-CF096338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239B-9CFA-4582-A841-EDD98F03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4E954-2AC5-4BC4-91F7-1DCBC5D819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