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54997"/>
        <c:axId val="20021624"/>
      </c:barChart>
      <c:catAx>
        <c:axId val="651549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21624"/>
        <c:crosses val="autoZero"/>
        <c:auto val="1"/>
        <c:lblAlgn val="ctr"/>
        <c:lblOffset val="100"/>
        <c:noMultiLvlLbl val="0"/>
      </c:catAx>
      <c:valAx>
        <c:axId val="20021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549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E4A-C6D8-452D-851C-BA0E0D71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F537-E54C-4B19-98BE-DA6EBA05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4ED-DD5D-4A8A-973A-FFAEA72D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99B5-C4CC-48E3-B228-C746CFC7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093-59FA-41ED-8C2B-67DCE85A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CF22-1E86-4036-AAFC-F4A9E484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116-0476-4980-A67B-50FFBE47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B46-194B-4287-BE87-661B64B4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BA5-0CE1-4877-8AEF-8C2418CE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EA91-A9CC-42DD-8FF9-6F309555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F117-3C06-49F8-ABB2-E7822072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075-81CF-44B7-801C-DAA8881D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6E0E3-7036-4530-A9FA-88CE56E797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