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01633"/>
        <c:axId val="52105657"/>
      </c:barChart>
      <c:catAx>
        <c:axId val="83201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5657"/>
        <c:crosses val="autoZero"/>
        <c:auto val="1"/>
        <c:lblAlgn val="ctr"/>
        <c:lblOffset val="100"/>
        <c:noMultiLvlLbl val="0"/>
      </c:catAx>
      <c:valAx>
        <c:axId val="52105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1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101-F663-452B-B9CE-275BD7DB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718-A182-4BD1-9E35-8D3D05E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740-10E8-43D1-8EE3-E5C9F989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FFD-2971-45B6-9837-10644721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077-78BD-412E-A5E8-3A4BDDF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C68-CD2F-451F-A9B0-3724941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CE7-C455-4D76-A0C6-4F13D4C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D0B-702B-4CB6-A332-0592A9F0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1C6-EC17-46AD-8D2A-1675E4A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6C9-D84E-457F-B090-EDD3502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D13-9764-4665-9F43-C6CB340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17F-5A7A-43BD-8D42-8B80604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37246-FFB6-4CE2-9639-C4F466B5DB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