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44404"/>
        <c:axId val="20517870"/>
      </c:barChart>
      <c:catAx>
        <c:axId val="26844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17870"/>
        <c:crosses val="autoZero"/>
        <c:auto val="1"/>
        <c:lblAlgn val="ctr"/>
        <c:lblOffset val="100"/>
        <c:noMultiLvlLbl val="0"/>
      </c:catAx>
      <c:valAx>
        <c:axId val="20517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44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B76-BC06-40AE-A8F0-B70978FE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A83-5375-4A47-A86A-7C1ADE33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0DA-3331-4DFD-91BE-D7C458E1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9E2-4D41-4190-AF1E-B2F9D4A0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E1B-F174-48BE-9A73-0B613CF0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F68-CFCE-46EA-9AB9-18A361AA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A97-FE65-4716-8FB3-4A013BEE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F76-EF40-435E-8A3F-A253CD84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249-EC96-4FD0-A585-769CCC95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C1A-30A9-41A4-BD32-221974EA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15C-1E8B-4699-9883-3B59F98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A1D-9891-4E99-859F-F252D1F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4BDB6-3BDC-4531-B65B-BC96E4097B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