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651650"/>
        <c:axId val="53317248"/>
      </c:barChart>
      <c:catAx>
        <c:axId val="916516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17248"/>
        <c:crosses val="autoZero"/>
        <c:auto val="1"/>
        <c:lblAlgn val="ctr"/>
        <c:lblOffset val="100"/>
        <c:noMultiLvlLbl val="0"/>
      </c:catAx>
      <c:valAx>
        <c:axId val="533172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516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F849-91BD-4BB1-BB12-DC8EDB9A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8DC9-D704-4207-AC5E-D3F1CE4F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CDBD-1BDF-43B3-899E-B6FE21CC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AEE7-06D0-4304-BE45-F073F4E6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5348-5B92-41FA-98F4-177BC95A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CA52-19A7-489D-AB80-3DE4770E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1461-CEBB-4875-9BCB-E4C1D877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0662-09D7-4B85-B95B-525AEE80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7823-D6F4-497A-A01E-5349CAEC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4483-D14D-4DE5-B893-63514D32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ED38-6429-4799-AE06-EA8B470F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CF73-3744-4BBB-A1D6-4D1E2109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41C12-D957-44E2-9C1B-247C747DA6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