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91525"/>
        <c:axId val="59527470"/>
      </c:barChart>
      <c:catAx>
        <c:axId val="68591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27470"/>
        <c:crosses val="autoZero"/>
        <c:auto val="1"/>
        <c:lblAlgn val="ctr"/>
        <c:lblOffset val="100"/>
        <c:noMultiLvlLbl val="0"/>
      </c:catAx>
      <c:valAx>
        <c:axId val="59527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1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20C-DDCE-4D15-9DF3-9BDF87A5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D79-9BF0-4563-8FBD-28723D5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9F9-DC50-41E1-AC1F-E1CE8A7B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886-55EB-4885-876B-50F5C51F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0FB-36C9-4EAD-8323-8A4BBBF3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072-645A-4D2E-A9B7-BC1E970C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3CD-6FF7-4798-8C95-B5A4991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89A-0EE4-4F13-AA26-26F97454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8C6-3932-48C3-8D4D-3D10B022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BC8-A875-4DEA-913B-C41EFEB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9DE-4787-46E5-86F8-8E2904F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2BB-EC84-4E51-AB30-B631922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A0248-181B-4F10-BF3D-3870350CA0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