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49285"/>
        <c:axId val="26826271"/>
      </c:barChart>
      <c:catAx>
        <c:axId val="83949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26271"/>
        <c:crosses val="autoZero"/>
        <c:auto val="1"/>
        <c:lblAlgn val="ctr"/>
        <c:lblOffset val="100"/>
        <c:noMultiLvlLbl val="0"/>
      </c:catAx>
      <c:valAx>
        <c:axId val="26826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9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4AC-0FF1-4E07-A880-82DA9F4C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FF6-162E-4819-93C3-73D42F8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C03-B367-4D69-B7D8-5AB42A75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BDD-07E3-46FF-AC7C-7C0CDBC4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A6F-270A-4462-8F47-68CA478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615-2286-4B52-B063-DF72FD7E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D9D-7004-4268-B69E-5C53666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4E6-E0A7-4C8F-AB8F-8EC004C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AFC-6598-46D9-BEA9-CC245EC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ADD-28E4-4D88-A862-92206948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B57-B55D-47C6-8A64-97B0C267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DBD-93E3-4F0F-90F9-F30E367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0B5BC-04E2-477B-B5A7-7448C5B0E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