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11388"/>
        <c:axId val="20434810"/>
      </c:barChart>
      <c:catAx>
        <c:axId val="86911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4810"/>
        <c:crosses val="autoZero"/>
        <c:auto val="1"/>
        <c:lblAlgn val="ctr"/>
        <c:lblOffset val="100"/>
        <c:noMultiLvlLbl val="0"/>
      </c:catAx>
      <c:valAx>
        <c:axId val="20434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1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4DA-4BA5-41FE-9B8A-9FD8EA7F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DDE-8DFC-4AD3-B263-F1A2815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76A-E433-466D-9242-6F70C39C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399-F3D0-405B-B8E0-8522D44D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C29-40D8-407E-9D26-DBFAE12A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91F-43FC-4DA2-AB70-0EACB76B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554-8975-4CEC-B1CD-6DB01B9E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FCC-535A-4A98-86B1-4FDC50C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55D-8D2C-4F93-844C-3EACC0A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8A7-E1E7-4225-800E-4FC69E9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6BE-F6C4-4F3E-BC51-15966A48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2D8-FC91-48C1-B156-65613C8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6AA5-1D9D-48CB-B816-DD0AADCAE9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