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562220"/>
        <c:axId val="31264267"/>
      </c:barChart>
      <c:catAx>
        <c:axId val="825622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264267"/>
        <c:crosses val="autoZero"/>
        <c:auto val="1"/>
        <c:lblAlgn val="ctr"/>
        <c:lblOffset val="100"/>
        <c:noMultiLvlLbl val="0"/>
      </c:catAx>
      <c:valAx>
        <c:axId val="312642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622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FE5A-2FBD-4C84-9203-35D01F446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D45F-EA1C-42B2-B284-CE061FA5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CB68-833E-43AE-875C-506F81E95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67CF-FB88-428D-88C6-EDB3811F1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CF9F-4BD8-48AD-93D6-B146EB49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95DE-F329-435F-8C47-889A0DD4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FAC3-442A-45CB-B168-789DAFDE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2E07-6122-4351-AA00-F87F6FAB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9D1A-6347-406D-9BA0-9D2F2E5B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E509-DF60-4364-A5EB-6CB90199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D1DE-9218-439F-9998-D8B20D37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FEA2-2843-4222-95D6-77EEC012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C290E5-674B-46E7-AA60-20D51E79A4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