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237224"/>
        <c:axId val="98498"/>
      </c:barChart>
      <c:catAx>
        <c:axId val="212372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98"/>
        <c:crosses val="autoZero"/>
        <c:auto val="1"/>
        <c:lblAlgn val="ctr"/>
        <c:lblOffset val="100"/>
        <c:noMultiLvlLbl val="0"/>
      </c:catAx>
      <c:valAx>
        <c:axId val="984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372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79D-9956-4569-8E68-20483B2B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63E7-3328-45CF-AA6E-7F4EB260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4AF-8580-4D7E-9371-D52B050C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8A5-E179-4F1E-B46B-5A18AC0B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A414-C906-4567-A426-DDA07362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25A-6162-4410-A333-C8BDA7A1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1EDE-495B-4117-966E-DA21BCD4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F20-F25A-4712-80FA-1E6F53E4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20E2-2841-4C38-999A-234C6A8C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4FD3-07B8-4BD5-B124-9A5A1005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7B17-9F1D-4A43-ABFB-828D070E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930-0B09-4EB6-812F-C93E3D5C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B58A4-B1AB-4492-B608-BD38E9F77C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