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86870"/>
        <c:axId val="80319537"/>
      </c:barChart>
      <c:catAx>
        <c:axId val="29886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19537"/>
        <c:crosses val="autoZero"/>
        <c:auto val="1"/>
        <c:lblAlgn val="ctr"/>
        <c:lblOffset val="100"/>
        <c:noMultiLvlLbl val="0"/>
      </c:catAx>
      <c:valAx>
        <c:axId val="80319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86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2CF-877D-4AEC-A5CF-7BC34CED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8ED-364D-4494-803F-26200BA7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BAE-6FFE-4685-8513-4FFA53B3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A01-3CEB-4C18-8D1C-321BAD23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993-6A1B-492E-8382-D71DC6BF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328-4A33-4BB5-B43A-CD8F4E2B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AB5-1E3A-4F32-B03F-0F4C6474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CC3-D29D-46FB-87E1-A06A25B6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3C0-BF74-407C-BC0A-63F972EE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328-C99F-424E-978F-A618AFAB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9BEF-A5FF-42EB-BC2F-E467ABB7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073-C2BC-4DCB-B506-7A4D66B4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30D07-9E71-4AEF-A1F4-EC868FAE69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