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50678"/>
        <c:axId val="93691017"/>
      </c:barChart>
      <c:catAx>
        <c:axId val="33250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1017"/>
        <c:crosses val="autoZero"/>
        <c:auto val="1"/>
        <c:lblAlgn val="ctr"/>
        <c:lblOffset val="100"/>
        <c:noMultiLvlLbl val="0"/>
      </c:catAx>
      <c:valAx>
        <c:axId val="93691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50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B79-D98E-4718-A659-23350382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E2B-D021-442A-892C-A2C5F349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3E1-6EAD-4506-9BDF-485B798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C4C-D233-4101-B468-84069B39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6BE-E203-443F-8CEE-2FE9A55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DBE-5E77-4D94-8760-E4CFB04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5F0-6DFE-4F70-B536-CF64E7C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9E7-1235-46E2-9E8F-F55B6D81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E2B-980F-4562-BA97-A9750EF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6F2-3E1A-464E-81A8-9F7D989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337-2F24-4E5E-9821-CDE2D89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8DD-E3AB-4CF9-982B-FFC0A66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5BB6-B742-483D-8826-0ACDC873C8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