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36776"/>
        <c:axId val="30956607"/>
      </c:barChart>
      <c:catAx>
        <c:axId val="751367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56607"/>
        <c:crosses val="autoZero"/>
        <c:auto val="1"/>
        <c:lblAlgn val="ctr"/>
        <c:lblOffset val="100"/>
        <c:noMultiLvlLbl val="0"/>
      </c:catAx>
      <c:valAx>
        <c:axId val="309566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367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E957-CD65-4BC4-B921-D41F1326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3188-F24D-4996-8BAA-5E860352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441A-0DD1-4186-A0CE-98F67E07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0254-5A8C-4CB8-BAE1-81ECD9FF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8285-F2B4-42C5-B0D3-0C3AE57A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AE6E-89C1-4C3A-BC8A-FCB2C63A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18D0-90A4-4ED5-A77B-835618CE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9F4-FB9B-4A16-B600-91EC7C8B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1A45-DCBC-49A8-8D08-68738B96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2D39-DEF8-4EB5-998D-9E5E3780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281-F9D3-4B72-B010-39E792C7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7B61-CB2A-44A2-BDB6-148F357A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1F68B-F57F-4151-960D-C131A7F500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