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37153"/>
        <c:axId val="98983560"/>
      </c:barChart>
      <c:catAx>
        <c:axId val="56337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3560"/>
        <c:crosses val="autoZero"/>
        <c:auto val="1"/>
        <c:lblAlgn val="ctr"/>
        <c:lblOffset val="100"/>
        <c:noMultiLvlLbl val="0"/>
      </c:catAx>
      <c:valAx>
        <c:axId val="98983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7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761-B941-491D-8413-1E7B6D00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4BE-1F66-470E-A097-56F2CC4B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A58-2062-4A41-9169-F5085E1E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8B9-F27C-41F5-A72A-37E7F874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A63-04BD-4732-B175-8B533F8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3AA-CFB9-4575-B476-4CEF313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661-E71E-48DC-AB0E-2BF3A885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EB9-A0BF-4237-9A03-382E4CC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69E-A9A6-42E1-8C4A-76111ADE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CC7-3EB3-4E4B-8B9D-B27D27B8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F97-0333-4C8B-B62B-738BB63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2FE-AC0E-47F1-B336-89B09AE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4E7B-125C-4FFD-A7BC-C1B10082B4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