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16171"/>
        <c:axId val="9585242"/>
      </c:barChart>
      <c:catAx>
        <c:axId val="60316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242"/>
        <c:crosses val="autoZero"/>
        <c:auto val="1"/>
        <c:lblAlgn val="ctr"/>
        <c:lblOffset val="100"/>
        <c:noMultiLvlLbl val="0"/>
      </c:catAx>
      <c:valAx>
        <c:axId val="9585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16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B5A-6BF2-4111-9728-4850FE76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097-B588-4C88-9F4E-0E043B53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206-0D13-46DC-8DCB-2FE447EA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D92-2289-4150-8028-76B852F8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54F-6457-45C5-9E23-AA500F1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D91-E431-4C1B-99A2-66EF8A36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A23-FBBB-41AB-978E-A8E7A8F4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548-7192-48E9-BA8E-17BA48B3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538-3DF5-4227-A184-E7EECC8B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BF5-96F4-4177-9BE7-00E6E58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E04-191A-4578-A336-1A350D49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4E3-D32B-4710-8613-E80B2E4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D3CD-4621-4A5B-9607-6856D2B012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