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83962"/>
        <c:axId val="35256975"/>
      </c:barChart>
      <c:catAx>
        <c:axId val="71583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56975"/>
        <c:crosses val="autoZero"/>
        <c:auto val="1"/>
        <c:lblAlgn val="ctr"/>
        <c:lblOffset val="100"/>
        <c:noMultiLvlLbl val="0"/>
      </c:catAx>
      <c:valAx>
        <c:axId val="35256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3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9C1-39CE-406B-8A5F-909315F1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CF5-BBC6-46C5-AB28-8D4C662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28B-6279-4EA3-8897-9D5B8ACE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C91-B245-4D1C-9B5F-2165899B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230-FA99-42F6-8E17-0995C134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265-0EAC-496B-960B-3E0AF4E9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1E0-B456-4C58-B35A-50AE97EA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95C-FE9B-4AD5-A125-C2219C1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33A-3CC3-4AC3-AAA6-342A0435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AF1-B656-4399-A2C0-AC24566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B14-4F34-44FC-8358-3252FC2C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FD4-7051-4B9F-A79C-F303C5C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D4517-0D39-41E5-B6CA-D9FF3789C3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