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62371"/>
        <c:axId val="20974131"/>
      </c:barChart>
      <c:catAx>
        <c:axId val="23062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74131"/>
        <c:crosses val="autoZero"/>
        <c:auto val="1"/>
        <c:lblAlgn val="ctr"/>
        <c:lblOffset val="100"/>
        <c:noMultiLvlLbl val="0"/>
      </c:catAx>
      <c:valAx>
        <c:axId val="20974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62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682-FB8A-49D0-BE70-5BB6F44F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F90-7159-428C-BF6A-CFC35DE4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32B-7BDB-4497-AB31-40A9BABA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E28-A67F-49D1-A5AA-8CCB5236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3958-0257-44C0-BC0E-419E7569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E63-1CE1-4759-83F2-028242D4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B49-E4D6-4233-9165-4C829C91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99A-15DE-4996-A882-291337EF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D00-39C9-4274-A032-EC7DFF9E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A5B-09E3-4577-9902-02480E1F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31A-1D16-4047-ADFA-F4B506CA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85B-1F2A-446B-AC69-6CAEB19B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882F4-60B4-4F1E-8E3A-A3BD57F370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